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5.jpeg" ContentType="image/jpeg"/>
  <Override PartName="/ppt/media/image4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10688638" cy="756285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2"/>
          </p:nvPr>
        </p:nvSpPr>
        <p:spPr>
          <a:xfrm>
            <a:off x="381600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753840" y="739440"/>
            <a:ext cx="52290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0a3aa"/>
                </a:solidFill>
                <a:latin typeface="ＭＳ Ｐゴシック"/>
              </a:rPr>
              <a:t>Click to move the slide</a:t>
            </a: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898200" y="4686120"/>
            <a:ext cx="4938840" cy="44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Microsoft Sans Serif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3"/>
          </p:nvPr>
        </p:nvSpPr>
        <p:spPr>
          <a:xfrm>
            <a:off x="-36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4"/>
          </p:nvPr>
        </p:nvSpPr>
        <p:spPr>
          <a:xfrm>
            <a:off x="3816000" y="937224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2F21-FEAA-4AA1-AA57-0EA785A47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14920" y="9371160"/>
            <a:ext cx="2919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B121D-21ED-4360-AF10-52EEB0F4E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754200" y="739800"/>
            <a:ext cx="5229000" cy="37004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9252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720" y="4362480"/>
            <a:ext cx="9252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156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720" y="436248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1560" y="436248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49120" y="126000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977520" y="126000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720" y="436248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49120" y="436248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977520" y="436248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20720" y="1260000"/>
            <a:ext cx="925200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925200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451476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461560" y="1260000"/>
            <a:ext cx="451476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20720" y="541080"/>
            <a:ext cx="7199280" cy="1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1560" y="1260000"/>
            <a:ext cx="451476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20720" y="436248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720" y="1260000"/>
            <a:ext cx="925200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451476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156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461560" y="436248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156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20720" y="4362480"/>
            <a:ext cx="9252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9252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20720" y="4362480"/>
            <a:ext cx="9252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6156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20720" y="436248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461560" y="436248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49120" y="126000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977520" y="126000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20720" y="436248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849120" y="436248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977520" y="436248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20720" y="1260000"/>
            <a:ext cx="925200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925200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451476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461560" y="1260000"/>
            <a:ext cx="451476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925200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20720" y="541080"/>
            <a:ext cx="7199280" cy="1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461560" y="1260000"/>
            <a:ext cx="451476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20720" y="436248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451476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46156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461560" y="436248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46156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20720" y="4362480"/>
            <a:ext cx="9252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9252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20720" y="4362480"/>
            <a:ext cx="9252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46156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20720" y="436248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461560" y="436248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849120" y="126000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977520" y="126000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20720" y="436248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849120" y="436248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977520" y="436248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A1BEE-DC75-4062-B4EC-43E265B824A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20720" y="1260000"/>
            <a:ext cx="925200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DCB57-73F2-4F76-B8EE-273EEB9C012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925200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BD18-B71B-466F-8391-24D88749F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451476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1560" y="1260000"/>
            <a:ext cx="451476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451476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461560" y="1260000"/>
            <a:ext cx="451476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B332-D2B5-47ED-995B-6A1470F5F06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1495B-0B65-4A14-B34B-2FE32E4CEC7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20720" y="541080"/>
            <a:ext cx="7199280" cy="1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D8BBC-4CA0-4747-9F1B-1B3E738D43A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61560" y="1260000"/>
            <a:ext cx="451476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20720" y="436248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4E950-98F9-427D-8658-26E87622B9C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451476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46156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461560" y="436248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235BC-A3E5-4830-AF83-E56B6768EFB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46156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20720" y="4362480"/>
            <a:ext cx="9252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5C4DD-1361-445E-BD72-B3AAE3D3FCF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9252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20720" y="4362480"/>
            <a:ext cx="9252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E4C4-28F2-4283-8E4E-7AD238D095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46156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20720" y="436248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461560" y="436248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D0C68-0E1E-4E21-8574-D3F6C9D9E3F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49120" y="126000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977520" y="126000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20720" y="436248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849120" y="436248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977520" y="4362480"/>
            <a:ext cx="2979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C63E2-9229-46D0-9EE2-C2CF8A57C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720" y="541080"/>
            <a:ext cx="7199280" cy="175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1560" y="1260000"/>
            <a:ext cx="451476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720" y="436248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451476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156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1560" y="436248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72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1560" y="1260000"/>
            <a:ext cx="451476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720" y="4362480"/>
            <a:ext cx="9252000" cy="28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正方形/長方形 7"/>
          <p:cNvSpPr/>
          <p:nvPr/>
        </p:nvSpPr>
        <p:spPr>
          <a:xfrm>
            <a:off x="0" y="0"/>
            <a:ext cx="10688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" name="テキスト ボックス 6"/>
          <p:cNvSpPr/>
          <p:nvPr/>
        </p:nvSpPr>
        <p:spPr>
          <a:xfrm>
            <a:off x="663480" y="7237440"/>
            <a:ext cx="589932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57983"/>
                </a:solidFill>
                <a:latin typeface="ＭＳ Ｐゴシック"/>
              </a:rPr>
              <a:t>© 2018 Sompo Japan Nipponkoa Insurance Inc. All Rights Reserved.</a:t>
            </a:r>
            <a:endParaRPr b="0" lang="en-US" sz="8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720720" y="1260000"/>
            <a:ext cx="925200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72960" indent="-372960">
              <a:spcBef>
                <a:spcPts val="55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72960" indent="-372960">
              <a:spcBef>
                <a:spcPts val="55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72960" indent="-372960">
              <a:spcBef>
                <a:spcPts val="55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72960" indent="-372960">
              <a:spcBef>
                <a:spcPts val="550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72960" indent="-372960">
              <a:spcBef>
                <a:spcPts val="550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72960" indent="-372960">
              <a:spcBef>
                <a:spcPts val="550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0a3aa"/>
                </a:solidFill>
                <a:latin typeface="ＭＳ Ｐゴシック"/>
              </a:rPr>
              <a:t>Click to edit the title text format</a:t>
            </a: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pic>
        <p:nvPicPr>
          <p:cNvPr id="4" name="図 13" descr=""/>
          <p:cNvPicPr/>
          <p:nvPr/>
        </p:nvPicPr>
        <p:blipFill>
          <a:blip r:embed="rId2"/>
          <a:stretch/>
        </p:blipFill>
        <p:spPr>
          <a:xfrm>
            <a:off x="719280" y="1054080"/>
            <a:ext cx="9253440" cy="2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2" descr="shd-01.jpg"/>
          <p:cNvPicPr/>
          <p:nvPr/>
        </p:nvPicPr>
        <p:blipFill>
          <a:blip r:embed="rId2"/>
          <a:stretch/>
        </p:blipFill>
        <p:spPr>
          <a:xfrm>
            <a:off x="3192480" y="3348000"/>
            <a:ext cx="4302000" cy="866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図 10" descr=""/>
          <p:cNvPicPr/>
          <p:nvPr/>
        </p:nvPicPr>
        <p:blipFill>
          <a:blip r:embed="rId2"/>
          <a:stretch/>
        </p:blipFill>
        <p:spPr>
          <a:xfrm>
            <a:off x="735120" y="6999120"/>
            <a:ext cx="9972720" cy="222480"/>
          </a:xfrm>
          <a:prstGeom prst="rect">
            <a:avLst/>
          </a:prstGeom>
          <a:ln w="0">
            <a:noFill/>
          </a:ln>
        </p:spPr>
      </p:pic>
      <p:sp>
        <p:nvSpPr>
          <p:cNvPr id="79" name="テキスト ボックス 7"/>
          <p:cNvSpPr/>
          <p:nvPr/>
        </p:nvSpPr>
        <p:spPr>
          <a:xfrm>
            <a:off x="2392200" y="6589800"/>
            <a:ext cx="5897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57983"/>
                </a:solidFill>
                <a:latin typeface="ＭＳ Ｐゴシック"/>
              </a:rPr>
              <a:t>© 2018 Sompo Japan Nipponkoa Insurance Inc. All Rights Reserved.</a:t>
            </a:r>
            <a:endParaRPr b="0" lang="en-US" sz="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80" name="図 12" descr="shd-01.jpg"/>
          <p:cNvPicPr/>
          <p:nvPr/>
        </p:nvPicPr>
        <p:blipFill>
          <a:blip r:embed="rId3"/>
          <a:stretch/>
        </p:blipFill>
        <p:spPr>
          <a:xfrm>
            <a:off x="6496200" y="603360"/>
            <a:ext cx="3578040" cy="722160"/>
          </a:xfrm>
          <a:prstGeom prst="rect">
            <a:avLst/>
          </a:prstGeom>
          <a:ln w="0">
            <a:noFill/>
          </a:ln>
        </p:spPr>
      </p:pic>
      <p:pic>
        <p:nvPicPr>
          <p:cNvPr id="81" name="図 1" descr="jpn_sjnk_official-logo_ja_h.jpg"/>
          <p:cNvPicPr/>
          <p:nvPr/>
        </p:nvPicPr>
        <p:blipFill>
          <a:blip r:embed="rId4"/>
          <a:stretch/>
        </p:blipFill>
        <p:spPr>
          <a:xfrm>
            <a:off x="3398760" y="5537160"/>
            <a:ext cx="3880080" cy="432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20720" y="1260000"/>
            <a:ext cx="925200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72960" indent="-372960">
              <a:spcBef>
                <a:spcPts val="55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72960" indent="-372960">
              <a:spcBef>
                <a:spcPts val="55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72960" indent="-372960">
              <a:spcBef>
                <a:spcPts val="55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72960" indent="-372960">
              <a:spcBef>
                <a:spcPts val="550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72960" indent="-372960">
              <a:spcBef>
                <a:spcPts val="550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72960" indent="-372960">
              <a:spcBef>
                <a:spcPts val="550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0a3aa"/>
                </a:solidFill>
                <a:latin typeface="ＭＳ Ｐゴシック"/>
              </a:rPr>
              <a:t>Click to edit the title text format</a:t>
            </a: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正方形/長方形 9"/>
          <p:cNvSpPr/>
          <p:nvPr/>
        </p:nvSpPr>
        <p:spPr>
          <a:xfrm>
            <a:off x="0" y="0"/>
            <a:ext cx="10688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21" name="テキスト ボックス 7"/>
          <p:cNvSpPr/>
          <p:nvPr/>
        </p:nvSpPr>
        <p:spPr>
          <a:xfrm>
            <a:off x="663480" y="7237440"/>
            <a:ext cx="5899320" cy="1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57983"/>
                </a:solidFill>
                <a:latin typeface="ＭＳ Ｐゴシック"/>
              </a:rPr>
              <a:t>© 2018 Sompo Japan Nipponkoa Insurance Inc. All Rights Reserved.</a:t>
            </a:r>
            <a:endParaRPr b="0" lang="en-US" sz="800" spc="-1" strike="noStrike">
              <a:solidFill>
                <a:srgbClr val="000000"/>
              </a:solidFill>
              <a:latin typeface="Microsoft Sans Serif"/>
            </a:endParaRPr>
          </a:p>
        </p:txBody>
      </p:sp>
      <p:pic>
        <p:nvPicPr>
          <p:cNvPr id="122" name="図 9" descr=""/>
          <p:cNvPicPr/>
          <p:nvPr/>
        </p:nvPicPr>
        <p:blipFill>
          <a:blip r:embed="rId2"/>
          <a:stretch/>
        </p:blipFill>
        <p:spPr>
          <a:xfrm>
            <a:off x="719280" y="798480"/>
            <a:ext cx="9253440" cy="23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20720" y="1260000"/>
            <a:ext cx="925200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2960" indent="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lvl="1" marL="372960" indent="-372960">
              <a:spcBef>
                <a:spcPts val="55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lvl="2" marL="372960" indent="-372960">
              <a:spcBef>
                <a:spcPts val="550"/>
              </a:spcBef>
              <a:buClr>
                <a:srgbClr val="000000"/>
              </a:buClr>
              <a:buFont typeface="ＭＳ Ｐゴシック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lvl="3" marL="372960" indent="-372960">
              <a:spcBef>
                <a:spcPts val="550"/>
              </a:spcBef>
              <a:buClr>
                <a:srgbClr val="000000"/>
              </a:buClr>
              <a:buFont typeface="ＭＳ Ｐゴシック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lvl="4" marL="372960" indent="-372960">
              <a:spcBef>
                <a:spcPts val="550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lvl="5" marL="372960" indent="-372960">
              <a:spcBef>
                <a:spcPts val="550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  <a:p>
            <a:pPr lvl="6" marL="372960" indent="-372960">
              <a:spcBef>
                <a:spcPts val="550"/>
              </a:spcBef>
              <a:buClr>
                <a:srgbClr val="000000"/>
              </a:buClr>
              <a:buFont typeface="ＭＳ Ｐゴシック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ＭＳ Ｐゴシック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ＭＳ Ｐゴシック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720720" y="541080"/>
            <a:ext cx="7199280" cy="37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a0a3aa"/>
                </a:solidFill>
                <a:latin typeface="ＭＳ Ｐゴシック"/>
              </a:rPr>
              <a:t>Click to edit the title text format</a:t>
            </a:r>
            <a:endParaRPr b="0" lang="en-US" sz="2100" spc="-1" strike="noStrike">
              <a:solidFill>
                <a:srgbClr val="a0a3aa"/>
              </a:solidFill>
              <a:latin typeface="ＭＳ Ｐゴシック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1"/>
          </p:nvPr>
        </p:nvSpPr>
        <p:spPr>
          <a:xfrm>
            <a:off x="8107200" y="7203960"/>
            <a:ext cx="249408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242F-AC24-43E4-8CFD-8F9F6D43F01A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8107200" y="7203960"/>
            <a:ext cx="249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8237E-F3D0-46B0-A6F6-C4D1A5237FAD}" type="slidenum">
              <a:rPr b="0" lang="ja-JP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8107200" y="7203960"/>
            <a:ext cx="249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7BD49-4611-4B9C-B3BB-B04B4B534E09}" type="slidenum">
              <a:rPr b="0" lang="ja-JP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</p:txBody>
      </p:sp>
      <p:graphicFrame>
        <p:nvGraphicFramePr>
          <p:cNvPr id="171" name="Object 7"/>
          <p:cNvGraphicFramePr/>
          <p:nvPr/>
        </p:nvGraphicFramePr>
        <p:xfrm>
          <a:off x="1744560" y="2243160"/>
          <a:ext cx="7128000" cy="504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4560" y="2243160"/>
                    <a:ext cx="7128000" cy="504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Rectangle 6"/>
          <p:cNvSpPr/>
          <p:nvPr/>
        </p:nvSpPr>
        <p:spPr>
          <a:xfrm>
            <a:off x="293760" y="922320"/>
            <a:ext cx="1001700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月のニューヨークでの国連サミットにおいて採択された、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の目標と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169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の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　ターゲットからなる世界共通の開発目標です。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ＳＤＧｓで実現を目指すのは、「誰一人取り残さない」という人間中心の社会です。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公式合意文書に、「創造性とイノベーションを持つ企業の参画を要請する」と明記される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ja-JP" sz="2100" spc="-1" strike="noStrike">
                <a:solidFill>
                  <a:srgbClr val="000000"/>
                </a:solidFill>
                <a:latin typeface="Arial"/>
              </a:rPr>
              <a:t>　 など、企業の役割が期待されています。</a:t>
            </a:r>
            <a:endParaRPr b="0" lang="en-US" sz="21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795240" y="216000"/>
            <a:ext cx="879804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2200" bIns="522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１．ＳＤＧｓ：エスディージーズ（持続可能な開発目標）とは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8107200" y="7203960"/>
            <a:ext cx="249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656FE-D265-4DC3-9972-580EEF93788D}" type="slidenum">
              <a:rPr b="0" lang="ja-JP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8107200" y="7203960"/>
            <a:ext cx="249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61BA0-4AC7-4D51-A504-CE16D9DEF902}" type="slidenum">
              <a:rPr b="0" lang="ja-JP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303120" y="1189080"/>
          <a:ext cx="10082160" cy="5688000"/>
        </p:xfrm>
        <a:graphic>
          <a:graphicData uri="http://schemas.openxmlformats.org/drawingml/2006/table">
            <a:tbl>
              <a:tblPr/>
              <a:tblGrid>
                <a:gridCol w="1295640"/>
                <a:gridCol w="2065320"/>
                <a:gridCol w="1319040"/>
                <a:gridCol w="2043000"/>
                <a:gridCol w="1386000"/>
                <a:gridCol w="1973160"/>
              </a:tblGrid>
              <a:tr h="18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目標 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あらゆる場所で、</a:t>
                      </a:r>
                      <a:br>
                        <a:rPr sz="16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あらゆる形態の貧困に終止符を打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目標 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2</a:t>
                      </a:r>
                      <a:br>
                        <a:rPr sz="18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飢餓に終止符を打ち、食糧の安定確保と栄養状態の改善を</a:t>
                      </a:r>
                      <a:br>
                        <a:rPr sz="16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達成するとともに、</a:t>
                      </a:r>
                      <a:br>
                        <a:rPr sz="16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持続可能な農業を</a:t>
                      </a:r>
                      <a:br>
                        <a:rPr sz="16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推進す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目標 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あらゆる年齢の</a:t>
                      </a:r>
                      <a:br>
                        <a:rPr sz="16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すべての人々の</a:t>
                      </a:r>
                      <a:br>
                        <a:rPr sz="16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健康的な生活を確保し、福祉を推進す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目標 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すべての人々に包摂的かつ公平で質の</a:t>
                      </a:r>
                      <a:br>
                        <a:rPr sz="16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高い教育を提供し、</a:t>
                      </a:r>
                      <a:br>
                        <a:rPr sz="16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生涯学習の機会を</a:t>
                      </a:r>
                      <a:br>
                        <a:rPr sz="16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促進す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目標 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ジェンダーの平等を達成し、すべての</a:t>
                      </a:r>
                      <a:br>
                        <a:rPr sz="16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女性と女児のエンパワーメントを図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目標 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すべての人々に水と衛生へのアクセスと持続可能な管理を</a:t>
                      </a:r>
                      <a:br>
                        <a:rPr sz="16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確保す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目標 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すべての人々に</a:t>
                      </a:r>
                      <a:br>
                        <a:rPr sz="16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手ごろで信頼でき、</a:t>
                      </a:r>
                      <a:br>
                        <a:rPr sz="16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持続可能かつ近代的なエネルギーへの</a:t>
                      </a:r>
                      <a:br>
                        <a:rPr sz="16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アクセスを確保す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目標 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すべての人々のための持続的、包摂的</a:t>
                      </a:r>
                      <a:br>
                        <a:rPr sz="16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かつ持続可能な経済成長、生産的な完全雇用およびディーセント・ワークを推進す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目標 </a:t>
                      </a:r>
                      <a:r>
                        <a:rPr b="1" lang="en-US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レジリエントなイン</a:t>
                      </a:r>
                      <a:br>
                        <a:rPr sz="16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フラを整備し、包摂的で持続可能な</a:t>
                      </a:r>
                      <a:br>
                        <a:rPr sz="16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産業化を推進するとともに、イノベー</a:t>
                      </a:r>
                      <a:br>
                        <a:rPr sz="16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ションの拡大を図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8" name="Picture 43" descr="sdg_icon_09_ja"/>
          <p:cNvPicPr/>
          <p:nvPr/>
        </p:nvPicPr>
        <p:blipFill>
          <a:blip r:embed="rId1"/>
          <a:stretch/>
        </p:blipFill>
        <p:spPr>
          <a:xfrm>
            <a:off x="7143840" y="543708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4" descr="sdg_icon_02_ja"/>
          <p:cNvPicPr/>
          <p:nvPr/>
        </p:nvPicPr>
        <p:blipFill>
          <a:blip r:embed="rId2"/>
          <a:stretch/>
        </p:blipFill>
        <p:spPr>
          <a:xfrm>
            <a:off x="3757680" y="16160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5" descr="sdg_icon_05_ja"/>
          <p:cNvPicPr/>
          <p:nvPr/>
        </p:nvPicPr>
        <p:blipFill>
          <a:blip r:embed="rId3"/>
          <a:stretch/>
        </p:blipFill>
        <p:spPr>
          <a:xfrm>
            <a:off x="3759120" y="349236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6" descr="sdg_icon_06_ja"/>
          <p:cNvPicPr/>
          <p:nvPr/>
        </p:nvPicPr>
        <p:blipFill>
          <a:blip r:embed="rId4"/>
          <a:stretch/>
        </p:blipFill>
        <p:spPr>
          <a:xfrm>
            <a:off x="7143840" y="349236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7" descr="sdg_icon_04_ja"/>
          <p:cNvPicPr/>
          <p:nvPr/>
        </p:nvPicPr>
        <p:blipFill>
          <a:blip r:embed="rId5"/>
          <a:stretch/>
        </p:blipFill>
        <p:spPr>
          <a:xfrm>
            <a:off x="376200" y="348768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8" descr="sdg_icon_08_ja"/>
          <p:cNvPicPr/>
          <p:nvPr/>
        </p:nvPicPr>
        <p:blipFill>
          <a:blip r:embed="rId6"/>
          <a:stretch/>
        </p:blipFill>
        <p:spPr>
          <a:xfrm>
            <a:off x="3757680" y="543240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9" descr="sdg_icon_01_ja"/>
          <p:cNvPicPr/>
          <p:nvPr/>
        </p:nvPicPr>
        <p:blipFill>
          <a:blip r:embed="rId7"/>
          <a:stretch/>
        </p:blipFill>
        <p:spPr>
          <a:xfrm>
            <a:off x="376200" y="162072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0" descr="sdg_icon_03_ja"/>
          <p:cNvPicPr/>
          <p:nvPr/>
        </p:nvPicPr>
        <p:blipFill>
          <a:blip r:embed="rId8"/>
          <a:stretch/>
        </p:blipFill>
        <p:spPr>
          <a:xfrm>
            <a:off x="7143840" y="161604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1" descr="sdg_icon_07_ja"/>
          <p:cNvPicPr/>
          <p:nvPr/>
        </p:nvPicPr>
        <p:blipFill>
          <a:blip r:embed="rId9"/>
          <a:stretch/>
        </p:blipFill>
        <p:spPr>
          <a:xfrm>
            <a:off x="376200" y="543240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"/>
          <p:cNvSpPr/>
          <p:nvPr/>
        </p:nvSpPr>
        <p:spPr>
          <a:xfrm>
            <a:off x="792000" y="287280"/>
            <a:ext cx="9952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２．ＳＤＧｓ</a:t>
            </a:r>
            <a:r>
              <a:rPr b="1" lang="ja-JP" sz="2400" spc="-1" strike="noStrike">
                <a:solidFill>
                  <a:srgbClr val="000000"/>
                </a:solidFill>
                <a:latin typeface="Microsoft Sans Serif"/>
              </a:rPr>
              <a:t>の１７の目標 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8107200" y="7203960"/>
            <a:ext cx="249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E3D43-0B5B-4B1D-AA59-1E658C8365C7}" type="slidenum">
              <a:rPr b="0" lang="ja-JP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8107200" y="7203960"/>
            <a:ext cx="24940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398B-3395-406C-8103-7A3C56EF543C}" type="slidenum">
              <a:rPr b="0" lang="ja-JP" sz="1400" spc="-1" strike="noStrike">
                <a:solidFill>
                  <a:srgbClr val="000000"/>
                </a:solidFill>
                <a:latin typeface="Microsoft Sans Serif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Microsoft Sans Serif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303120" y="1050840"/>
          <a:ext cx="10082160" cy="6126120"/>
        </p:xfrm>
        <a:graphic>
          <a:graphicData uri="http://schemas.openxmlformats.org/drawingml/2006/table">
            <a:tbl>
              <a:tblPr/>
              <a:tblGrid>
                <a:gridCol w="1295640"/>
                <a:gridCol w="2065320"/>
                <a:gridCol w="1319040"/>
                <a:gridCol w="2043000"/>
                <a:gridCol w="1386000"/>
                <a:gridCol w="1973160"/>
              </a:tblGrid>
              <a:tr h="189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目標 １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国内および国家間の不平等を是正す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目標 １１</a:t>
                      </a:r>
                      <a:br>
                        <a:rPr sz="18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都市と人間の居住地を包摂的、安全、レジリエントかつ持続可能にす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目標 １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持続可能な消費と</a:t>
                      </a:r>
                      <a:br>
                        <a:rPr sz="16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生産のパターンを</a:t>
                      </a:r>
                      <a:br>
                        <a:rPr sz="16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確保す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目標 １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気候変動とその影響に立ち向かうため、</a:t>
                      </a:r>
                      <a:br>
                        <a:rPr sz="16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緊急対策を取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目標 １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海洋と海洋資源を</a:t>
                      </a:r>
                      <a:br>
                        <a:rPr sz="16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持続可能な開発に</a:t>
                      </a:r>
                      <a:br>
                        <a:rPr sz="1600"/>
                      </a:b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向けて保全し、持続可能な形で利用す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目標 １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陸上生態系の保護、</a:t>
                      </a:r>
                      <a:br>
                        <a:rPr sz="1400"/>
                      </a:b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回復および持続可能な利用の推進、森林の</a:t>
                      </a:r>
                      <a:br>
                        <a:rPr sz="1400"/>
                      </a:b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持続可能な管理、砂漠化への対処、土地劣化の阻止および逆転、</a:t>
                      </a:r>
                      <a:br>
                        <a:rPr sz="1400"/>
                      </a:b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ならびに生物多様性</a:t>
                      </a:r>
                      <a:br>
                        <a:rPr sz="1400"/>
                      </a:b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損失の阻止を図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目標 １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持続可能な開発に向けて平和で包摂的な社会を推進し、すべての人々に司法へのアクセスを提供するとともに、あらゆる</a:t>
                      </a:r>
                      <a:br>
                        <a:rPr sz="1400"/>
                      </a:br>
                      <a:r>
                        <a:rPr b="0" lang="ja-JP" sz="14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レベルにおいて効果的で責任ある包摂的な制度を構築す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9900"/>
                          </a:solidFill>
                          <a:latin typeface="ＭＳ Ｐゴシック"/>
                        </a:rPr>
                        <a:t>目標 １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600" spc="-1" strike="noStrike">
                          <a:solidFill>
                            <a:srgbClr val="000000"/>
                          </a:solidFill>
                          <a:latin typeface="ＭＳ Ｐゴシック"/>
                        </a:rPr>
                        <a:t>持続可能な開発に向けて実施手段を強化し、グローバル・パートナーシップを活性化す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600" spc="-1" strike="noStrike">
                        <a:solidFill>
                          <a:srgbClr val="000000"/>
                        </a:solidFill>
                        <a:latin typeface="Microsoft Sans Serif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1" name="Picture 42" descr="sdg_icon_17_ja"/>
          <p:cNvPicPr/>
          <p:nvPr/>
        </p:nvPicPr>
        <p:blipFill>
          <a:blip r:embed="rId1"/>
          <a:stretch/>
        </p:blipFill>
        <p:spPr>
          <a:xfrm>
            <a:off x="3759120" y="522756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3" descr="sdg_icon_15_ja"/>
          <p:cNvPicPr/>
          <p:nvPr/>
        </p:nvPicPr>
        <p:blipFill>
          <a:blip r:embed="rId2"/>
          <a:stretch/>
        </p:blipFill>
        <p:spPr>
          <a:xfrm>
            <a:off x="7143840" y="335592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4" descr="sdg_icon_10_ja_2"/>
          <p:cNvPicPr/>
          <p:nvPr/>
        </p:nvPicPr>
        <p:blipFill>
          <a:blip r:embed="rId3"/>
          <a:stretch/>
        </p:blipFill>
        <p:spPr>
          <a:xfrm>
            <a:off x="376200" y="141120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5" descr="sdg_icon_12_ja"/>
          <p:cNvPicPr/>
          <p:nvPr/>
        </p:nvPicPr>
        <p:blipFill>
          <a:blip r:embed="rId4"/>
          <a:stretch/>
        </p:blipFill>
        <p:spPr>
          <a:xfrm>
            <a:off x="7143840" y="141120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6" descr="sdg_icon_16_ja"/>
          <p:cNvPicPr/>
          <p:nvPr/>
        </p:nvPicPr>
        <p:blipFill>
          <a:blip r:embed="rId5"/>
          <a:stretch/>
        </p:blipFill>
        <p:spPr>
          <a:xfrm>
            <a:off x="376200" y="5227560"/>
            <a:ext cx="1152720" cy="11527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7" descr="sdg_icon_14_ja"/>
          <p:cNvPicPr/>
          <p:nvPr/>
        </p:nvPicPr>
        <p:blipFill>
          <a:blip r:embed="rId6"/>
          <a:stretch/>
        </p:blipFill>
        <p:spPr>
          <a:xfrm>
            <a:off x="3760920" y="335592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8" descr="sdg_icon_11_ja"/>
          <p:cNvPicPr/>
          <p:nvPr/>
        </p:nvPicPr>
        <p:blipFill>
          <a:blip r:embed="rId7"/>
          <a:stretch/>
        </p:blipFill>
        <p:spPr>
          <a:xfrm>
            <a:off x="3760920" y="141120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9" descr="sdg_icon_13_ja"/>
          <p:cNvPicPr/>
          <p:nvPr/>
        </p:nvPicPr>
        <p:blipFill>
          <a:blip r:embed="rId8"/>
          <a:stretch/>
        </p:blipFill>
        <p:spPr>
          <a:xfrm>
            <a:off x="376200" y="3355920"/>
            <a:ext cx="1152720" cy="115272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3"/>
          <p:cNvSpPr/>
          <p:nvPr/>
        </p:nvSpPr>
        <p:spPr>
          <a:xfrm>
            <a:off x="792000" y="287280"/>
            <a:ext cx="9952200" cy="4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2200" bIns="52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Arial"/>
              </a:rPr>
              <a:t>２．ＳＤＧｓ</a:t>
            </a:r>
            <a:r>
              <a:rPr b="1" lang="ja-JP" sz="2400" spc="-1" strike="noStrike">
                <a:solidFill>
                  <a:srgbClr val="000000"/>
                </a:solidFill>
                <a:latin typeface="Microsoft Sans Serif"/>
              </a:rPr>
              <a:t>の１７の目標 </a:t>
            </a:r>
            <a:endParaRPr b="0" lang="en-US" sz="2400" spc="-1" strike="noStrike">
              <a:solidFill>
                <a:srgbClr val="000000"/>
              </a:solidFill>
              <a:latin typeface="Microsoft Sans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04T08:35:52Z</dcterms:created>
  <dc:creator>ＳＯＭＰＯ　ＨＤ</dc:creator>
  <dc:description/>
  <dc:language>en-US</dc:language>
  <cp:lastModifiedBy>okuhoken03</cp:lastModifiedBy>
  <cp:lastPrinted>2016-04-25T01:37:54Z</cp:lastPrinted>
  <dcterms:modified xsi:type="dcterms:W3CDTF">2018-10-11T02:53:03Z</dcterms:modified>
  <cp:revision>284</cp:revision>
  <dc:subject/>
  <dc:title>スライド 0</dc:title>
</cp:coreProperties>
</file>